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6A0-3168-4CCC-AD79-2826B7AB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A2A-C2E1-487F-9759-511F2F92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01F-88FE-4E90-BD8F-93CDC7F4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6BC-D6FE-48E9-B0ED-64E634A2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F378-92CA-4698-89DF-AF3B4C41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9AE9-AE6D-4B55-A947-81B443A4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DC6-6B3C-4B5B-9FDD-1CEABEA1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2829-653E-486A-8096-EF24229F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8B9D-4000-4628-B299-E860D59C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706E-916F-441C-BA19-1C49801F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DC66-4C99-4873-91B1-B6AF345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A08-F08E-401A-A874-6CCE3394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4FAD-4067-4B07-94EF-552B1DC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7AC8-D9D8-4361-ADDD-221BCDF5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2C5F-8707-4D0B-BEA0-BFE44A95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93F4-EC33-4AC8-9C9A-855DC9F4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D522-4595-423F-B09E-1743E138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9B8-4B20-4E95-A595-C077A5BB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D56-301A-4345-9568-3D37318D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36C-D403-4CF6-818A-A250348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4DB-D6E0-48EE-95D4-A2D97552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460-DC05-4DD6-983C-424F2A09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8F8-9F44-44F8-924A-599014E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462-0FE5-41DA-8585-91FFFCA2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811-7B3E-4062-AA53-7676531F7E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15D-7BFE-439C-B621-D6C7350C26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836880"/>
            <a:ext cx="4343400" cy="287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43400" y="3805200"/>
            <a:ext cx="4800600" cy="290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181480" cy="323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886200" cy="32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24560" y="3124080"/>
            <a:ext cx="70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 Black"/>
              </a:rPr>
              <a:t>Curiozităţi despre mamif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86200" cy="281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57800" y="0"/>
            <a:ext cx="3708360" cy="3541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6720" y="358128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r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ina Tomesc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36760"/>
            <a:ext cx="4876920" cy="362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60920" y="0"/>
            <a:ext cx="4483080" cy="3192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533520"/>
            <a:ext cx="426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na ursului polar este al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ă pentru 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jlocul firului de păr din blană este g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şi prin el se reflectă lumina mai m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ât în zăpadă şi gheaţă .Iarna, bl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ui se colorează în galben .Piel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sului polar este neagr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l poate înota continuu 100 de km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2948040" cy="3886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3848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3827520"/>
            <a:ext cx="4724280" cy="3030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05640" y="4419720"/>
            <a:ext cx="408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ela leu 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ânează mai mult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90 % din ceea ce mănâncă un grup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i ,în timp ce masculul preferă do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ă se odihnească 20 ,21 de ore pe z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ânatul este mai întâi mâncat de leu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oi de femele şi ceea ce rămâ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ănâncă pui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mb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4648320" cy="293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31840" y="3809880"/>
            <a:ext cx="453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fantul este foa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nalt ,între 3 şi 4,5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ântăreşte 5 000 -7 000 de kg ,mănân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m 225 de kg pe zi şi bea 90 l de ap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 vede foarte bine ,dar urechile şi nas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l ajută .Poate mirosi apa de la 4 k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stanţă şi este singurul animal care 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ate săr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2511360" cy="3767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495520"/>
            <a:ext cx="3176640" cy="436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24080" y="4724280"/>
            <a:ext cx="58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rafa nu poate scoate nici un sunet ,dar aude anum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ete :gu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ţatul ,sforăitul şi behăitul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girafă are acelaşi număr de oase în alcătui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heletului gâtului ca şi omul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ush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2971800" cy="412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72160" y="0"/>
            <a:ext cx="2571840" cy="4094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905120" y="-228600"/>
            <a:ext cx="4267080" cy="4224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8948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70480" y="4456080"/>
            <a:ext cx="53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liacul este faimos pentru 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ă doarme ziua ş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boară noaptea ,vede în întuneric folosind un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 sunet .Undele sunt atât de fine ,că unele sun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 le aude nici omul .Ele îl fac să ştie şi dacă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ectă se apropie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liacul este singurul mamifer care zboar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ush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57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360684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56840" y="4572000"/>
            <a:ext cx="37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gurul nu poate mer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nap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re o săritură mai lungă de 12 m ş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are cu o viteză mai mare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0 km/or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9240" cy="3981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4114800" cy="2952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71920" y="102708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grul a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şi pielea cu dungi ,nu numai blan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ungile au rol de camuflaj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56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6080" cy="3657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15280" y="4572000"/>
            <a:ext cx="516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ra delfinului este pl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ă de colţi ascuţiţi şi nu-ş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erde nici unul în timpul vieţi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lfinii dorm cu un ochi deschis ,îşi pot miş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hii în mod separat ,uitându-se cu un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ntr-o direcţie şi cu celălalt în altă direcţie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23:21Z</dcterms:created>
  <dc:creator>Retestrak</dc:creator>
  <dc:description/>
  <dc:language>en-US</dc:language>
  <cp:lastModifiedBy>Retestrak</cp:lastModifiedBy>
  <dcterms:modified xsi:type="dcterms:W3CDTF">2007-03-29T12:52:35Z</dcterms:modified>
  <cp:revision>28</cp:revision>
  <dc:subject/>
  <dc:title>Slide 1</dc:title>
</cp:coreProperties>
</file>